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20.gif" ContentType="image/gi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8409-A528-4EE4-B38A-0E5D0FC6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6A6A-A329-4468-8338-FF239DC0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921-2361-42C7-8830-BD71F91A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46AB-6A6B-44DD-9F0F-3C69893A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54A2-FFD9-474D-8ED5-41E2B281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901B-7596-4CCB-9C9A-A0688B26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BFB-7E3D-4761-B9B5-9F555AB8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43D8-D9E3-4978-A597-58716D1D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6906-5881-446A-9066-4B692B73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A3E2-F00B-45CF-B163-C13E4BF1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660-7208-4980-A9A2-DE36597F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3EAF-47A5-412C-BA41-4F35D892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B472-17E2-49D6-800A-508E8700C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124000" y="98100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解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251080" y="110808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落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378160" y="1235160"/>
            <a:ext cx="446544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能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05240" y="1362240"/>
            <a:ext cx="446544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浪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631960" y="148896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竹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759040" y="161604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竿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886120" y="1743120"/>
            <a:ext cx="446544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斜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322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矩形 7"/>
          <p:cNvSpPr/>
          <p:nvPr/>
        </p:nvSpPr>
        <p:spPr>
          <a:xfrm>
            <a:off x="0" y="0"/>
            <a:ext cx="9144000" cy="6813720"/>
          </a:xfrm>
          <a:prstGeom prst="rect">
            <a:avLst/>
          </a:prstGeom>
          <a:solidFill>
            <a:srgbClr val="ffffff">
              <a:alpha val="85000"/>
            </a:srgbClr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华文楷体"/>
                <a:ea typeface="华文楷体"/>
              </a:rPr>
              <a:t>xiá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3638520" y="2351160"/>
            <a:ext cx="1965240" cy="21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0066"/>
                </a:solidFill>
                <a:effectLst>
                  <a:outerShdw dist="38160" dir="0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斜</a:t>
            </a:r>
            <a:endParaRPr b="0" lang="en-US" sz="6000" spc="-1" strike="noStrike">
              <a:ln w="0">
                <a:noFill/>
              </a:ln>
              <a:solidFill>
                <a:srgbClr val="ff0066"/>
              </a:solidFill>
              <a:effectLst>
                <a:outerShdw dist="38160" dir="0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908000" y="692280"/>
            <a:ext cx="5473800" cy="5060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   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                 （唐）李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解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楷体_GB2312"/>
              </a:rPr>
              <a:t>落三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叶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二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花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江千尺浪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入竹万竿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楷体_GB2312"/>
              </a:rPr>
              <a:t>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a.hiphotos.baidu.com/baike/c%3DbaikeA1%2C10%2C95/sign=332f8adf36d12f2eda05f93126a9b023/10dfa9ec8a1363272a13293b918fa0ec09fa513d2697e7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21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注释译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秋：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农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九月，指晚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斜：倾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6390"/>
          <p:cNvSpPr/>
          <p:nvPr/>
        </p:nvSpPr>
        <p:spPr>
          <a:xfrm>
            <a:off x="826920" y="4724280"/>
            <a:ext cx="54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1670867_161133069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1187280" y="4365720"/>
            <a:ext cx="77058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使树叶在晚秋时节掉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54b4d039c74cd0a255e723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714240" y="1285920"/>
            <a:ext cx="64087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能在早春二月时使百花盛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8438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200831610651969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928800" y="1143000"/>
            <a:ext cx="66722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吹过江面时会掀起千尺巨浪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http://picapi.ooopic.com/01/23/73/07b1OOOPIC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250920" y="549360"/>
            <a:ext cx="84643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方正隶书简体"/>
              </a:rPr>
              <a:t>吹入竹林时能使成千上万的竹子倾斜倒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051008korea10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1571760" y="0"/>
            <a:ext cx="562428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6000" spc="-1" strike="noStrike">
                <a:solidFill>
                  <a:srgbClr val="008000"/>
                </a:solidFill>
                <a:latin typeface="Arial"/>
                <a:ea typeface="楷体_GB2312"/>
              </a:rPr>
              <a:t>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4000"/>
            </a:br>
            <a:br>
              <a:rPr sz="4800"/>
            </a:b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398320" y="2428920"/>
            <a:ext cx="472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解落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三秋叶，能开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二月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42960" y="342900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过江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千尺浪，入竹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万竿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357120" y="4857840"/>
            <a:ext cx="8572680" cy="52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首诗让人看到了风的力量，能使晚秋的树叶脱落，能催开早春二月的鲜花。它经过江河时能掀起千尺巨浪，刮进竹林时可把万棵翠竹吹得歪歪斜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de1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www.qbaobei.com/Uploads/Editor/2015-12-24/567ba9d91c8b4.jpg"/>
          <p:cNvPicPr/>
          <p:nvPr/>
        </p:nvPicPr>
        <p:blipFill>
          <a:blip r:embed="rId1"/>
          <a:stretch/>
        </p:blipFill>
        <p:spPr>
          <a:xfrm>
            <a:off x="34920" y="1909800"/>
            <a:ext cx="9036000" cy="494172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44" name="矩形 1"/>
          <p:cNvSpPr/>
          <p:nvPr/>
        </p:nvSpPr>
        <p:spPr>
          <a:xfrm>
            <a:off x="2700360" y="343080"/>
            <a:ext cx="6264360" cy="64260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bf6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新年时，和爸爸妈妈一起读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春节童谣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2532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3"/>
          <p:cNvSpPr/>
          <p:nvPr/>
        </p:nvSpPr>
        <p:spPr>
          <a:xfrm>
            <a:off x="3132000" y="971640"/>
            <a:ext cx="356400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校  老师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工厂  工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医院  医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军队  军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" descr=""/>
          <p:cNvPicPr/>
          <p:nvPr/>
        </p:nvPicPr>
        <p:blipFill>
          <a:blip r:embed="rId2"/>
          <a:stretch/>
        </p:blipFill>
        <p:spPr>
          <a:xfrm>
            <a:off x="108000" y="298440"/>
            <a:ext cx="1401840" cy="140184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2"/>
          <p:cNvSpPr/>
          <p:nvPr/>
        </p:nvSpPr>
        <p:spPr>
          <a:xfrm>
            <a:off x="1509840" y="836640"/>
            <a:ext cx="36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趣味识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云形标注 1"/>
          <p:cNvSpPr/>
          <p:nvPr/>
        </p:nvSpPr>
        <p:spPr>
          <a:xfrm>
            <a:off x="331920" y="6840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认识这些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285840" y="2637000"/>
            <a:ext cx="7128360" cy="1675080"/>
            <a:chOff x="285840" y="2637000"/>
            <a:chExt cx="7128360" cy="1675080"/>
          </a:xfrm>
        </p:grpSpPr>
        <p:grpSp>
          <p:nvGrpSpPr>
            <p:cNvPr id="54" name="Group 4"/>
            <p:cNvGrpSpPr/>
            <p:nvPr/>
          </p:nvGrpSpPr>
          <p:grpSpPr>
            <a:xfrm>
              <a:off x="2003040" y="2748240"/>
              <a:ext cx="1903320" cy="1563840"/>
              <a:chOff x="2003040" y="2748240"/>
              <a:chExt cx="1903320" cy="1563840"/>
            </a:xfrm>
          </p:grpSpPr>
          <p:grpSp>
            <p:nvGrpSpPr>
              <p:cNvPr id="55" name="Group 5"/>
              <p:cNvGrpSpPr/>
              <p:nvPr/>
            </p:nvGrpSpPr>
            <p:grpSpPr>
              <a:xfrm>
                <a:off x="2003040" y="2748240"/>
                <a:ext cx="1752480" cy="1526760"/>
                <a:chOff x="2003040" y="2748240"/>
                <a:chExt cx="1752480" cy="1526760"/>
              </a:xfrm>
            </p:grpSpPr>
            <p:sp>
              <p:nvSpPr>
                <p:cNvPr id="56" name="Rectangle 6"/>
                <p:cNvSpPr/>
                <p:nvPr/>
              </p:nvSpPr>
              <p:spPr>
                <a:xfrm>
                  <a:off x="2003040" y="278676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7"/>
                <p:cNvSpPr/>
                <p:nvPr/>
              </p:nvSpPr>
              <p:spPr>
                <a:xfrm>
                  <a:off x="2885760" y="274824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Line 8"/>
                <p:cNvSpPr/>
                <p:nvPr/>
              </p:nvSpPr>
              <p:spPr>
                <a:xfrm>
                  <a:off x="2016360" y="34927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" name="Text Box 9"/>
              <p:cNvSpPr/>
              <p:nvPr/>
            </p:nvSpPr>
            <p:spPr>
              <a:xfrm>
                <a:off x="2166120" y="275508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厂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0"/>
            <p:cNvGrpSpPr/>
            <p:nvPr/>
          </p:nvGrpSpPr>
          <p:grpSpPr>
            <a:xfrm>
              <a:off x="285840" y="2637000"/>
              <a:ext cx="1910520" cy="1621080"/>
              <a:chOff x="285840" y="2637000"/>
              <a:chExt cx="1910520" cy="1621080"/>
            </a:xfrm>
          </p:grpSpPr>
          <p:grpSp>
            <p:nvGrpSpPr>
              <p:cNvPr id="61" name="Group 11"/>
              <p:cNvGrpSpPr/>
              <p:nvPr/>
            </p:nvGrpSpPr>
            <p:grpSpPr>
              <a:xfrm>
                <a:off x="285840" y="2734560"/>
                <a:ext cx="1739160" cy="1523520"/>
                <a:chOff x="285840" y="2734560"/>
                <a:chExt cx="1739160" cy="1523520"/>
              </a:xfrm>
            </p:grpSpPr>
            <p:sp>
              <p:nvSpPr>
                <p:cNvPr id="62" name="Rectangle 12"/>
                <p:cNvSpPr/>
                <p:nvPr/>
              </p:nvSpPr>
              <p:spPr>
                <a:xfrm>
                  <a:off x="285840" y="277308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13"/>
                <p:cNvSpPr/>
                <p:nvPr/>
              </p:nvSpPr>
              <p:spPr>
                <a:xfrm>
                  <a:off x="115524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Line 14"/>
                <p:cNvSpPr/>
                <p:nvPr/>
              </p:nvSpPr>
              <p:spPr>
                <a:xfrm>
                  <a:off x="285840" y="347724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Text Box 15"/>
              <p:cNvSpPr/>
              <p:nvPr/>
            </p:nvSpPr>
            <p:spPr>
              <a:xfrm>
                <a:off x="456480" y="263700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工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16"/>
            <p:cNvGrpSpPr/>
            <p:nvPr/>
          </p:nvGrpSpPr>
          <p:grpSpPr>
            <a:xfrm>
              <a:off x="3715200" y="2637000"/>
              <a:ext cx="1877760" cy="1621080"/>
              <a:chOff x="3715200" y="2637000"/>
              <a:chExt cx="1877760" cy="1621080"/>
            </a:xfrm>
          </p:grpSpPr>
          <p:grpSp>
            <p:nvGrpSpPr>
              <p:cNvPr id="67" name="Group 17"/>
              <p:cNvGrpSpPr/>
              <p:nvPr/>
            </p:nvGrpSpPr>
            <p:grpSpPr>
              <a:xfrm>
                <a:off x="3715200" y="2734560"/>
                <a:ext cx="1773360" cy="1523520"/>
                <a:chOff x="3715200" y="2734560"/>
                <a:chExt cx="1773360" cy="1523520"/>
              </a:xfrm>
            </p:grpSpPr>
            <p:sp>
              <p:nvSpPr>
                <p:cNvPr id="68" name="Rectangle 18"/>
                <p:cNvSpPr/>
                <p:nvPr/>
              </p:nvSpPr>
              <p:spPr>
                <a:xfrm>
                  <a:off x="3715200" y="2773080"/>
                  <a:ext cx="174168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9"/>
                <p:cNvSpPr/>
                <p:nvPr/>
              </p:nvSpPr>
              <p:spPr>
                <a:xfrm>
                  <a:off x="461772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20"/>
                <p:cNvSpPr/>
                <p:nvPr/>
              </p:nvSpPr>
              <p:spPr>
                <a:xfrm>
                  <a:off x="3746880" y="3477240"/>
                  <a:ext cx="17416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21"/>
              <p:cNvSpPr/>
              <p:nvPr/>
            </p:nvSpPr>
            <p:spPr>
              <a:xfrm>
                <a:off x="3852000" y="2637000"/>
                <a:ext cx="1740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医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22"/>
            <p:cNvGrpSpPr/>
            <p:nvPr/>
          </p:nvGrpSpPr>
          <p:grpSpPr>
            <a:xfrm>
              <a:off x="5429160" y="2640240"/>
              <a:ext cx="1985040" cy="1624320"/>
              <a:chOff x="5429160" y="2640240"/>
              <a:chExt cx="1985040" cy="1624320"/>
            </a:xfrm>
          </p:grpSpPr>
          <p:grpSp>
            <p:nvGrpSpPr>
              <p:cNvPr id="73" name="Group 23"/>
              <p:cNvGrpSpPr/>
              <p:nvPr/>
            </p:nvGrpSpPr>
            <p:grpSpPr>
              <a:xfrm>
                <a:off x="5429160" y="2733120"/>
                <a:ext cx="1774080" cy="1531440"/>
                <a:chOff x="5429160" y="2733120"/>
                <a:chExt cx="1774080" cy="1531440"/>
              </a:xfrm>
            </p:grpSpPr>
            <p:sp>
              <p:nvSpPr>
                <p:cNvPr id="74" name="Rectangle 24"/>
                <p:cNvSpPr/>
                <p:nvPr/>
              </p:nvSpPr>
              <p:spPr>
                <a:xfrm>
                  <a:off x="5429160" y="277956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5"/>
                <p:cNvSpPr/>
                <p:nvPr/>
              </p:nvSpPr>
              <p:spPr>
                <a:xfrm>
                  <a:off x="6334200" y="27331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6"/>
                <p:cNvSpPr/>
                <p:nvPr/>
              </p:nvSpPr>
              <p:spPr>
                <a:xfrm>
                  <a:off x="5464800" y="347580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27"/>
              <p:cNvSpPr/>
              <p:nvPr/>
            </p:nvSpPr>
            <p:spPr>
              <a:xfrm>
                <a:off x="5672520" y="264024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院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"/>
          <p:cNvGrpSpPr/>
          <p:nvPr/>
        </p:nvGrpSpPr>
        <p:grpSpPr>
          <a:xfrm>
            <a:off x="2127240" y="-1481040"/>
            <a:ext cx="6793200" cy="5764680"/>
            <a:chOff x="2127240" y="-1481040"/>
            <a:chExt cx="6793200" cy="5764680"/>
          </a:xfrm>
        </p:grpSpPr>
        <p:sp>
          <p:nvSpPr>
            <p:cNvPr id="79" name="Line 8"/>
            <p:cNvSpPr/>
            <p:nvPr/>
          </p:nvSpPr>
          <p:spPr>
            <a:xfrm>
              <a:off x="2127240" y="-1481040"/>
              <a:ext cx="174132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11"/>
            <p:cNvGrpSpPr/>
            <p:nvPr/>
          </p:nvGrpSpPr>
          <p:grpSpPr>
            <a:xfrm>
              <a:off x="7156800" y="2797200"/>
              <a:ext cx="1763640" cy="1486440"/>
              <a:chOff x="7156800" y="2797200"/>
              <a:chExt cx="1763640" cy="1486440"/>
            </a:xfrm>
          </p:grpSpPr>
          <p:sp>
            <p:nvSpPr>
              <p:cNvPr id="81" name="Rectangle 12"/>
              <p:cNvSpPr/>
              <p:nvPr/>
            </p:nvSpPr>
            <p:spPr>
              <a:xfrm>
                <a:off x="7179120" y="2797200"/>
                <a:ext cx="1741320" cy="1486440"/>
              </a:xfrm>
              <a:prstGeom prst="rect">
                <a:avLst/>
              </a:prstGeom>
              <a:solidFill>
                <a:srgbClr val="ebf939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4"/>
              <p:cNvSpPr/>
              <p:nvPr/>
            </p:nvSpPr>
            <p:spPr>
              <a:xfrm>
                <a:off x="7156800" y="3505320"/>
                <a:ext cx="17413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Line 7"/>
          <p:cNvSpPr/>
          <p:nvPr/>
        </p:nvSpPr>
        <p:spPr>
          <a:xfrm>
            <a:off x="8048520" y="2782800"/>
            <a:ext cx="0" cy="148932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7284960" y="2664000"/>
            <a:ext cx="174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楷体"/>
              </a:rPr>
              <a:t>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7"/>
          <p:cNvSpPr/>
          <p:nvPr/>
        </p:nvSpPr>
        <p:spPr>
          <a:xfrm>
            <a:off x="376200" y="2034720"/>
            <a:ext cx="869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ōng   chǎng    yī</a:t>
            </a:r>
            <a:r>
              <a:rPr b="0" lang="zh-CN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à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  shē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156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2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1755720" cy="1431720"/>
          </a:xfrm>
          <a:prstGeom prst="rect">
            <a:avLst/>
          </a:prstGeom>
          <a:ln w="0">
            <a:noFill/>
          </a:ln>
        </p:spPr>
      </p:pic>
      <p:sp>
        <p:nvSpPr>
          <p:cNvPr id="88" name="矩形 3"/>
          <p:cNvSpPr/>
          <p:nvPr/>
        </p:nvSpPr>
        <p:spPr>
          <a:xfrm>
            <a:off x="2741400" y="6922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4073040" y="2001960"/>
            <a:ext cx="34156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果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树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加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法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办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法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旁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两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许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 也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许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到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处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四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处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学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生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生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"/>
          <p:cNvSpPr/>
          <p:nvPr/>
        </p:nvSpPr>
        <p:spPr>
          <a:xfrm>
            <a:off x="468360" y="1125360"/>
            <a:ext cx="9288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新年到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请同学们，为你的家人和朋友写一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祝福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media.teeqee.com/game/img/461/b9468b3413605d1b1a8b6e306987dae5.jpg"/>
          <p:cNvPicPr/>
          <p:nvPr/>
        </p:nvPicPr>
        <p:blipFill>
          <a:blip r:embed="rId2"/>
          <a:stretch/>
        </p:blipFill>
        <p:spPr>
          <a:xfrm>
            <a:off x="-20520" y="0"/>
            <a:ext cx="9337680" cy="7101000"/>
          </a:xfrm>
          <a:prstGeom prst="rect">
            <a:avLst/>
          </a:prstGeom>
          <a:ln w="0">
            <a:noFill/>
          </a:ln>
        </p:spPr>
      </p:pic>
      <p:sp>
        <p:nvSpPr>
          <p:cNvPr id="92" name="矩形 9218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578f57897a5c62b3a5c27233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762120" y="114300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古诗诵读时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0246"/>
          <p:cNvSpPr/>
          <p:nvPr/>
        </p:nvSpPr>
        <p:spPr>
          <a:xfrm>
            <a:off x="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1714680" y="357120"/>
            <a:ext cx="5473440" cy="5060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          </a:t>
            </a: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黑体"/>
              </a:rPr>
              <a:t>《</a:t>
            </a:r>
            <a:r>
              <a:rPr b="1" lang="zh-CN" sz="5400" spc="-1" strike="noStrike">
                <a:solidFill>
                  <a:srgbClr val="c00000"/>
                </a:solidFill>
                <a:latin typeface="Arial"/>
                <a:ea typeface="黑体"/>
              </a:rPr>
              <a:t>风</a:t>
            </a: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黑体"/>
              </a:rPr>
              <a:t>》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                （唐）李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解落三秋叶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能开二月花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过江千尺浪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入竹万竿斜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521460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李峤，唐朝著名的宫廷诗人，与杜审言、苏味道、崔融并称“文章四友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矩形 7"/>
          <p:cNvSpPr/>
          <p:nvPr/>
        </p:nvSpPr>
        <p:spPr>
          <a:xfrm>
            <a:off x="0" y="0"/>
            <a:ext cx="9144000" cy="6813720"/>
          </a:xfrm>
          <a:prstGeom prst="rect">
            <a:avLst/>
          </a:prstGeom>
          <a:solidFill>
            <a:srgbClr val="ffffff">
              <a:alpha val="85000"/>
            </a:srgbClr>
          </a:solidFill>
          <a:ln w="12600">
            <a:solidFill>
              <a:srgbClr val="d9d9d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jiě   luò  nénɡ  lànɡ  zhú   ɡān   xi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解   落    能     浪    竹     竿    斜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啊啊</cp:lastModifiedBy>
  <dcterms:modified xsi:type="dcterms:W3CDTF">2017-06-24T15:06:56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